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64738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606-92DB-43A6-8ABA-06E6D98D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960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2560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6108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FDD-EDBE-4DCE-9BC1-02E276B0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960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25600"/>
            <a:ext cx="30117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25600"/>
            <a:ext cx="30117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61080"/>
            <a:ext cx="30117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61080"/>
            <a:ext cx="30117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A7E-B7D6-4212-9FAE-EAEBFD15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960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25600"/>
            <a:ext cx="19872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25600"/>
            <a:ext cx="19872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25600"/>
            <a:ext cx="19872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61080"/>
            <a:ext cx="19872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61080"/>
            <a:ext cx="19872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61080"/>
            <a:ext cx="19872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DB9-9A10-450D-86BE-76F667CA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960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25600"/>
            <a:ext cx="6172200" cy="65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CC3-7122-4384-A2D3-EA86E10E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960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25600"/>
            <a:ext cx="6172200" cy="65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B68-913F-49DB-AEEC-C051DA98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960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25600"/>
            <a:ext cx="3011760" cy="65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25600"/>
            <a:ext cx="3011760" cy="65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4B5-D623-4C23-A13C-C859BB14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960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DC3-5A49-4AA9-902B-AB6BE258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9600"/>
            <a:ext cx="6172200" cy="76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E4D-41B9-4F71-A543-B9F0CB04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960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25600"/>
            <a:ext cx="30117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25600"/>
            <a:ext cx="3011760" cy="65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61080"/>
            <a:ext cx="30117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04C-5F27-4451-953B-8A8BCB43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960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25600"/>
            <a:ext cx="3011760" cy="65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25600"/>
            <a:ext cx="30117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61080"/>
            <a:ext cx="30117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9BF-F835-4923-B91E-2A34F34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960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25600"/>
            <a:ext cx="30117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25600"/>
            <a:ext cx="30117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6108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7EF-9976-434D-A7E2-0B22EF48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960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25600"/>
            <a:ext cx="6172200" cy="65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75240"/>
            <a:ext cx="16002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75240"/>
            <a:ext cx="217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75240"/>
            <a:ext cx="16002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D7E8-36A1-4732-956D-F827C1FC6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mailto:Mamie@StacyBolton.com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470480"/>
            <a:ext cx="2697120" cy="2128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279520"/>
            <a:ext cx="2041560" cy="1941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03520" y="4449600"/>
            <a:ext cx="3354480" cy="211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687760" y="2251080"/>
            <a:ext cx="1503360" cy="1933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76320" y="8640720"/>
            <a:ext cx="7010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mage Credits, Clockwise from top left: 1.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Mathilde Rosier, </a:t>
            </a:r>
            <a:r>
              <a:rPr b="0" i="1" lang="fr-FR" sz="700" spc="-1" strike="noStrike">
                <a:solidFill>
                  <a:srgbClr val="000000"/>
                </a:solidFill>
                <a:latin typeface="Arial"/>
              </a:rPr>
              <a:t>Time and Place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, 2003, courtesy Galerie Zürcher, Paris; 2. Nicolas Touron, </a:t>
            </a:r>
            <a:r>
              <a:rPr b="0" i="1" lang="fr-FR" sz="700" spc="-1" strike="noStrike">
                <a:solidFill>
                  <a:srgbClr val="000000"/>
                </a:solidFill>
                <a:latin typeface="Arial"/>
              </a:rPr>
              <a:t>Soft Landing,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004, courtesy Slingshot Project, N.Y.;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 Andre Pretorius,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ite Rio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right of diptych), 2004, courtesy Zieher Smith, N.Y.; 4. Norbert Bisky,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Sturm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2003, courtesy Michael Schultz, Berlin; 5. Frank Lloyd Wright,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wo oak and wool velvet hassocks created for Wingspread, the Herbert F.Johnson residence, Wind Point, Wisconsin,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urtesy Galerie Eric Philippe, Paris; 6. Anish Kapoor, </a:t>
            </a:r>
            <a:r>
              <a:rPr b="0" i="1" lang="en-GB" sz="700" spc="-1" strike="noStrike">
                <a:solidFill>
                  <a:srgbClr val="000000"/>
                </a:solidFill>
                <a:latin typeface="Arial"/>
              </a:rPr>
              <a:t>Ascension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, 2003, courtesy Galleria Continua, San Gimignano;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7. Julian Opie,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Bryan plays guitar 1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2004, courtesy Lisson Gallery, London and the artist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; 8. Vanessa Beecroft,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Rivoli Sister Project,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03, courtesy Cosmic Galerie, Paris; 9. Mattia Bonetti,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Sofa “Cut-Out,”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04, courtesy David Gill Galleries, London;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. Wassily Kandinsky,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Kleine Welte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1922, courtesy Base Gallery, Tokyo. 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OR MORE INFORMATION OR TO REQUEST IMAGES: Call Stacy Bolton Communications, (212) 721-5350 or email </a:t>
            </a:r>
            <a:r>
              <a:rPr b="0" lang="fr-FR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amie@StacyBolton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767120" y="6811920"/>
            <a:ext cx="2090880" cy="1679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098800" y="6815160"/>
            <a:ext cx="2168280" cy="170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187308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354720"/>
            <a:ext cx="32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32480" y="3992400"/>
            <a:ext cx="32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10800000">
            <a:off x="4555800" y="833544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79840" y="185904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 rot="10800000">
            <a:off x="1523520" y="681084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 rot="10800000">
            <a:off x="1889280" y="8349120"/>
            <a:ext cx="32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239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 rot="10800000">
            <a:off x="2650680" y="444924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 rot="10800000">
            <a:off x="2437920" y="399204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2209680" y="407880"/>
            <a:ext cx="2044800" cy="161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689360" y="411120"/>
            <a:ext cx="2168640" cy="162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0" y="6813720"/>
            <a:ext cx="1547640" cy="169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4846680" y="2239920"/>
            <a:ext cx="2011320" cy="192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58:59Z</dcterms:created>
  <dc:creator> Mamie</dc:creator>
  <dc:description/>
  <dc:language>en-US</dc:language>
  <cp:lastModifiedBy>Zahid Rahman</cp:lastModifiedBy>
  <dcterms:modified xsi:type="dcterms:W3CDTF">2004-09-12T02:29:48Z</dcterms:modified>
  <cp:revision>20</cp:revision>
  <dc:subject/>
  <dc:title>Slide 1</dc:title>
</cp:coreProperties>
</file>